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40.jpeg" ContentType="image/jpeg"/>
  <Override PartName="/ppt/media/image44.jpeg" ContentType="image/jpeg"/>
  <Override PartName="/ppt/media/image9.jpeg" ContentType="image/jpeg"/>
  <Override PartName="/ppt/media/image11.jpeg" ContentType="image/jpeg"/>
  <Override PartName="/ppt/media/image2.jpeg" ContentType="image/jpeg"/>
  <Override PartName="/ppt/media/image36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43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  <p:sldId id="289" r:id="rId48"/>
    <p:sldId id="290" r:id="rId49"/>
    <p:sldId id="291" r:id="rId50"/>
    <p:sldId id="292" r:id="rId51"/>
    <p:sldId id="293" r:id="rId52"/>
    <p:sldId id="294" r:id="rId53"/>
    <p:sldId id="295" r:id="rId54"/>
    <p:sldId id="296" r:id="rId55"/>
    <p:sldId id="297" r:id="rId56"/>
    <p:sldId id="298" r:id="rId57"/>
    <p:sldId id="299" r:id="rId58"/>
    <p:sldId id="300" r:id="rId59"/>
    <p:sldId id="301" r:id="rId60"/>
    <p:sldId id="302" r:id="rId61"/>
    <p:sldId id="303" r:id="rId62"/>
    <p:sldId id="304" r:id="rId63"/>
    <p:sldId id="305" r:id="rId64"/>
    <p:sldId id="306" r:id="rId65"/>
    <p:sldId id="307" r:id="rId6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slide" Target="slides/slide34.xml"/><Relationship Id="rId49" Type="http://schemas.openxmlformats.org/officeDocument/2006/relationships/slide" Target="slides/slide35.xml"/><Relationship Id="rId50" Type="http://schemas.openxmlformats.org/officeDocument/2006/relationships/slide" Target="slides/slide36.xml"/><Relationship Id="rId51" Type="http://schemas.openxmlformats.org/officeDocument/2006/relationships/slide" Target="slides/slide37.xml"/><Relationship Id="rId52" Type="http://schemas.openxmlformats.org/officeDocument/2006/relationships/slide" Target="slides/slide38.xml"/><Relationship Id="rId53" Type="http://schemas.openxmlformats.org/officeDocument/2006/relationships/slide" Target="slides/slide39.xml"/><Relationship Id="rId54" Type="http://schemas.openxmlformats.org/officeDocument/2006/relationships/slide" Target="slides/slide40.xml"/><Relationship Id="rId55" Type="http://schemas.openxmlformats.org/officeDocument/2006/relationships/slide" Target="slides/slide41.xml"/><Relationship Id="rId56" Type="http://schemas.openxmlformats.org/officeDocument/2006/relationships/slide" Target="slides/slide42.xml"/><Relationship Id="rId57" Type="http://schemas.openxmlformats.org/officeDocument/2006/relationships/slide" Target="slides/slide43.xml"/><Relationship Id="rId58" Type="http://schemas.openxmlformats.org/officeDocument/2006/relationships/slide" Target="slides/slide44.xml"/><Relationship Id="rId59" Type="http://schemas.openxmlformats.org/officeDocument/2006/relationships/slide" Target="slides/slide45.xml"/><Relationship Id="rId60" Type="http://schemas.openxmlformats.org/officeDocument/2006/relationships/slide" Target="slides/slide46.xml"/><Relationship Id="rId61" Type="http://schemas.openxmlformats.org/officeDocument/2006/relationships/slide" Target="slides/slide47.xml"/><Relationship Id="rId62" Type="http://schemas.openxmlformats.org/officeDocument/2006/relationships/slide" Target="slides/slide48.xml"/><Relationship Id="rId63" Type="http://schemas.openxmlformats.org/officeDocument/2006/relationships/slide" Target="slides/slide49.xml"/><Relationship Id="rId64" Type="http://schemas.openxmlformats.org/officeDocument/2006/relationships/slide" Target="slides/slide50.xml"/><Relationship Id="rId65" Type="http://schemas.openxmlformats.org/officeDocument/2006/relationships/slide" Target="slides/slide51.xml"/><Relationship Id="rId66" Type="http://schemas.openxmlformats.org/officeDocument/2006/relationships/slide" Target="slides/slide52.xml"/><Relationship Id="rId6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 type="dt" idx="3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755BB-9E35-4FD7-9579-0FC6AFCFED4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 type="ftr" idx="3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 type="sldNum" idx="3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111CA-CFB4-404F-A8B4-4EAE090A6B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Date Placeholder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186F9-07C8-4F4B-BF94-FA281352A08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Slide Number Placeholder 4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DAE3C-84BB-40EF-9FF2-2382187A3C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ACC79-70BF-4422-8D19-FA58747FA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A5526-77A3-4BCF-8A99-594B6A247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BE915A5-9CB2-4A25-B070-9C9237F13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02A91B2-F1AA-4FFC-A812-14B530F3D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8D577EF-C563-495D-9769-78AF5E995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C61AA0A-7442-4E72-8A5B-F9DAE525A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109B56D-EB72-4142-8376-9B2043180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D34F8F7-80D4-4065-9680-ECAB11ADD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C679379-96AC-457F-AD7E-BCEB86350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88EBD4B-00CA-4D48-82A2-8181A8B85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60504EE-BD5F-415D-9722-FEC0E47C6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2DEC8E2-1B21-408F-9CD0-D9B41A09D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2ED6E-FE21-47B6-9EBC-F2EB56CD5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BECD73C-AB85-4F16-BA44-B3D484AEF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2439726-F6A5-431F-8A19-1F915E50E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12C7958-42AA-43B4-92F9-3DA89923D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3AA6046-B717-4326-BCFC-0B5AAF4F6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9186CC2-BC5A-4557-8D47-172EE160B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3D3CDFE-D3AB-428D-847A-ADFBF06E3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F393257-435B-4B4E-9CC1-32740020C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B1C005D-76AD-4A9A-AC58-88D001968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BF1E7E5-30C3-47F7-8BAD-D3371AECD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89135E5-A7B5-4AC1-9316-8BAA201DA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0BF24-0415-4957-9CFA-CDBC6570B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4502F5A-BAF3-4BEB-B570-878DC40B1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0CAAA5-FA9E-4F1C-A4C4-446ED6621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3A96F6-DC3E-4ED9-B8AE-B66F5F04C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157C42-996B-493E-B9BE-EA428A4D9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39B07D-1596-47D1-9449-26FBED7BF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2EBF1C-4F70-486B-B9F2-116833D15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7CC3E3-424E-47FD-8106-5C3B7F811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1C4D8F-D0DF-4895-AAFE-D4F2C6AA7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8EB818-FFE2-4ECF-9A30-0EF49F37D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CCD1E2-DEF1-4FAF-8BC4-571549D5C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F9E48-8CAB-482B-AE57-1C50817E5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5D5D47-8B8A-493A-BB51-472D6071F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E6E34F-CCCD-4A16-8C6C-1AE263E7E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37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38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618F2E-6AE0-4205-BBBA-ACDFE92E0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8E62BB-6C12-4E72-8CCB-DADD62DAB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691F1C-E0CF-4708-9DE6-65FEB43B6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7FCD83-9574-40DB-A367-154EB21BB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8C7DF9-A688-4DDE-A1A9-4807ABD4F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82AF0A-DDDE-4A1B-AFEF-458BF901A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714D0B-9DEF-4458-9F18-A4FEE9492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B13E49-0CB1-4688-9ACA-29AB07D68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82098-32A2-40C9-81FF-07DD0955B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B24A62-6715-4F48-ABF8-B7CE55987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FC9FE8-261B-4894-A407-A38679851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1520A5-763F-4D63-9DCD-0A8607B89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941873-907C-46E5-81F8-562B9F196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84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85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9EF468-8FA7-4755-8689-5BA9079A4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FF9AB-D717-44D2-A8BB-5076C2764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402C7-82FC-4903-BA7A-DBE98D775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8C984-8508-4C97-9A93-D03771687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A7CDC-F132-4ADD-A6A3-B47446C32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D380E-E136-4950-9DAE-253B55537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5E3F9-A2B0-4F9F-A008-28C56DE95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5260F-5139-4155-8B56-52134C130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60370-A383-488F-A0ED-E06ECF52D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C247F-520E-4F1C-BF33-C8C189892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DEE78-C516-439D-BDAD-FE7956666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176B9-88C7-4DC7-B5A8-866938ABB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5302A8F-AF8B-4F35-8B23-05CEC051C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0CB6B4A-20CC-4001-AC5D-D7E8E6DCA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37260F7-42BC-43D2-A907-305E9ABF8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B3333FE-D613-4351-A974-795E9323A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8B96A2F-A0A2-4F86-AE29-E49EFD173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3EA6C-BDA7-4B95-9611-470381AD1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F544207-E484-4E55-A000-05D8229D6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ED0576D-429A-4502-8160-16213A329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4406160-C14E-4FC0-9B82-5EC728D77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7FBA053-2EF7-4F8B-B121-9EE316930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813C446-40D9-49F1-B7DA-4C7C8951D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032974E-4515-440E-9664-0522BE65C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FE34A98-1821-4192-9583-FCC9EE79F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CEFB32-AFA9-4F1E-8C3B-CFAE3875E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190585-B98C-419A-80F2-0A80E283E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A2D8A7-3C22-4DB3-9CDB-2FCE7D449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98C8B-25C1-4867-B354-70E232153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2723D5-7183-4CD8-83AB-11B904584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F23EAB-1A96-4474-BC17-B9F31EBB9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C7786C-66B2-47CA-AFDE-9FB0ABAF4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A411FA-6D55-4C3E-B928-0C0A813D6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B06F65-64B9-4A17-B8D2-25CF2C018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E359B7-BE38-4414-87F9-83536F1AC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DF07D4-2D57-49A2-9B1B-7C38F6686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9F0786-94D6-4C4E-9950-F94ACE787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F9068E-6893-4604-A4EC-E2026F83A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282FAC-2E53-4567-99B5-19B04FEED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330F7-B9BB-4A7F-B811-769B2D175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7B68F6-771F-4180-BC5C-EFE296DA7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73D12A-2BF2-49F3-8DBB-9AA1182AA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3356C4-040D-4386-B68E-3DC5F3552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89290B-AA09-4A8A-8AB5-46A5886D6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82A19A-BD17-4942-90F1-9278CC40E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1710EF-50F0-4682-9583-7D4A63315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8151DF-D498-4CB9-8AFF-FBFAC0EAB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BE20C5-A2B5-4FB8-BDAB-B883290A4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260423-AC75-4EF2-960D-8BF3C861A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22F617-023A-42B1-BE6C-C4B92BCD4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A4CAC-B8AC-4DFE-A81F-A2FB3EED0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8C590B-1701-4BF8-8771-AD228F9D0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07DF86-B390-47F8-8D4C-5920330D6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31BBAD-5BA1-4375-8EDB-12B2034FD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798320-1AAF-4878-8B73-FBB9F3B6B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1C2D69-4FAA-4BBE-A007-49FA55B33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BB87D6-51B8-4FB5-8600-2185377F1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15BD83-D21A-44C7-8CD5-93F647F6C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53FEC0-27A1-491D-BC9A-755C01D26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5C44E0-ACB9-4CC0-B945-24DFDD84B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E362A1-2539-4544-B62D-5642950B8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15F44-2C75-4FC1-9812-C211D2507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D397CB-DC5F-4443-829C-26E63083B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215C28-8015-4E6B-A002-9D07381BF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96E09F-45D2-4809-9182-D2664554D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8F8D5DA-BB62-40EA-8975-F24AFFEB8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F0CFFB1-D634-4C23-A67D-A352E2C4B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1F5A3BF-E5DA-4FDF-BB0C-7445158AC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56605A8-E031-4E89-8534-F7780276F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9B6EE78-F715-4D28-A8F2-7CB87A56B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D770C12-073C-4330-9975-0BEED4F41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FDFFBE9-07EF-4C72-9F26-E1B2D990B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74B2D-C419-410E-AEDF-573725B78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C061FE9-20C6-4B4A-94A0-D8FA7CC93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72770DF-4F0F-4340-B1D6-55590A036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26595CF-2D80-4E44-BD70-CFB16F968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42131FE-6134-4B55-9752-33F540C0F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9F6D4C4-AAD2-4082-9B0F-4C7488052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FAC10A-1890-462B-BCA5-206E2FF68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1D0045-CB83-42FA-AD83-BAB73A0AE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7B0064-2FBF-4262-B6E9-68980EAAC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F9EEC3-C3A9-43E4-BA42-C7044FB25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62C079-BBB7-4256-8FE3-70675C09F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90D50-1D2D-4FC2-95B4-12A3A7343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620A59-9F31-4E5B-8AE5-D690D0F93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BDB122-54C1-424F-B8AA-73489FD82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1E57E3-AD3F-4F9A-B9F3-6538D08E9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92F20F-16D4-410A-8326-AEA1E8441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754B6C-726B-41F2-A820-3A798BB56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FAB232-C5DA-4D37-8275-40953F4D6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95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8EB13E-9D1D-4B68-B56F-E27054D0D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62E4221-DD48-4CA9-8394-B331BA699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0DB62A4-520B-4321-BADD-E4CCB4C33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8C3BA00-113D-4336-BD9F-B9D31456F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BB6F3-4198-4EE9-8F10-990AF3458A4A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Oval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Straight Connector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Rectangle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Straight Connector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Straight Connector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Straight Connector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28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sldNum" idx="29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597FA-F193-4440-A3D9-416BC58A44B1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ftr" idx="30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 type="dt" idx="3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 type="ftr" idx="3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 type="sldNum" idx="3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A908C-3AF7-40E4-8090-1FD13197695C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 type="dt" idx="34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 type="ftr" idx="3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 type="sldNum" idx="36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D9788-440D-4BAC-B402-58CA185436AD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Straight Connector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Oval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Oval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Oval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E84F5-CB5A-4ACD-BD34-067940B4B1E6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ACE33-A7DE-470B-8508-3E4184DDB050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Oval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Oval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Oval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Oval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Oval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Straight Connector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72E64-334C-4E02-9CB8-28CED4C7F7EA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4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5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8E932-2EB8-4C2C-B3E3-23A7C8E1B77E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17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1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1F900-1270-462B-9A32-1A9B6FD1C1ED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3C2CD-7CB5-49AF-9776-904B39688241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 type="dt" idx="22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 type="ftr" idx="23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 type="sldNum" idx="2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B33A6-18AF-4D52-9A1A-5F820CEE30ED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Straight Connector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Straight Connector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Oval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 type="dt" idx="25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 type="sldNum" idx="26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98AAB-2FFA-4C93-AA53-D8F59F387460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 type="ftr" idx="27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7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earn.genetics.utah.edu/content/begin/cells/scale/" TargetMode="External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7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8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8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8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7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8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2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2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hyperlink" Target="http://multimedia.mcb.harvard.edu/anim_innerlife.html" TargetMode="External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6840" y="579600"/>
            <a:ext cx="7467480" cy="71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5f6d"/>
                </a:solidFill>
                <a:latin typeface="Century Schoolbook"/>
              </a:rPr>
              <a:t>CH. 6 WARM-UP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94" name=""/>
          <p:cNvSpPr txBox="1"/>
          <p:nvPr/>
        </p:nvSpPr>
        <p:spPr>
          <a:xfrm>
            <a:off x="457200" y="1600200"/>
            <a:ext cx="830592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01"/>
              </a:spcBef>
              <a:buClr>
                <a:srgbClr val="fe8637"/>
              </a:buClr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What are the 2 main types of cells? Which Domains do they consist of?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514440" indent="-514440">
              <a:spcBef>
                <a:spcPts val="601"/>
              </a:spcBef>
              <a:buClr>
                <a:srgbClr val="fe8637"/>
              </a:buClr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514440" indent="-514440">
              <a:spcBef>
                <a:spcPts val="601"/>
              </a:spcBef>
              <a:buClr>
                <a:srgbClr val="fe8637"/>
              </a:buClr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List 3 ways that eukaryotes differ from prokaryotes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514440" indent="-514440">
              <a:spcBef>
                <a:spcPts val="601"/>
              </a:spcBef>
              <a:buClr>
                <a:srgbClr val="fe8637"/>
              </a:buClr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Text Box 10"/>
          <p:cNvSpPr/>
          <p:nvPr/>
        </p:nvSpPr>
        <p:spPr>
          <a:xfrm>
            <a:off x="860400" y="1600200"/>
            <a:ext cx="333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ze range of cel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Text Box 11"/>
          <p:cNvSpPr/>
          <p:nvPr/>
        </p:nvSpPr>
        <p:spPr>
          <a:xfrm>
            <a:off x="838080" y="3276720"/>
            <a:ext cx="33307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e that light microscopes can not magnify as well as electron microscop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5" name="Picture 1" descr="06_02_CellSizeRange-L.jpg"/>
          <p:cNvPicPr/>
          <p:nvPr/>
        </p:nvPicPr>
        <p:blipFill>
          <a:blip r:embed="rId1"/>
          <a:stretch/>
        </p:blipFill>
        <p:spPr>
          <a:xfrm>
            <a:off x="4305240" y="0"/>
            <a:ext cx="44578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Rectangle 5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20001"/>
                </a:solidFill>
                <a:latin typeface="Arial"/>
              </a:rPr>
              <a:t>Light Microscopy (LM) vs. Electron Microscopy (EM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Picture 1" descr="06_03_Microscopy-L.jpg"/>
          <p:cNvPicPr/>
          <p:nvPr/>
        </p:nvPicPr>
        <p:blipFill>
          <a:blip r:embed="rId1"/>
          <a:stretch/>
        </p:blipFill>
        <p:spPr>
          <a:xfrm>
            <a:off x="647640" y="600120"/>
            <a:ext cx="7886880" cy="6257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351000"/>
            <a:ext cx="8229600" cy="71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5f6d"/>
                </a:solidFill>
                <a:latin typeface="Century Schoolbook"/>
              </a:rPr>
              <a:t>COMPARISONS OF SCOPES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456840" y="1645920"/>
            <a:ext cx="404028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Visible light passes through specime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Refracts light so specimen is magnified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Magnify up to 1000X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pecimen can be alive/moving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olor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0" name=""/>
          <p:cNvSpPr txBox="1"/>
          <p:nvPr/>
        </p:nvSpPr>
        <p:spPr>
          <a:xfrm>
            <a:off x="4644720" y="1645920"/>
            <a:ext cx="404172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cuses a beam of electrons through/onto specime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Magnify up to 1,000,000 tim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pecimen non-living and in vacuum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Black and whit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475200" y="1130760"/>
            <a:ext cx="4003560" cy="34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59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entury Schoolbook"/>
              </a:rPr>
              <a:t>Light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2" name=""/>
          <p:cNvSpPr txBox="1"/>
          <p:nvPr/>
        </p:nvSpPr>
        <p:spPr>
          <a:xfrm>
            <a:off x="4663080" y="1130760"/>
            <a:ext cx="4005000" cy="34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59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entury Schoolbook"/>
              </a:rPr>
              <a:t>Electron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3506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5f6d"/>
                </a:solidFill>
                <a:latin typeface="Century Schoolbook"/>
              </a:rPr>
              <a:t>ELECTRON MICROSCOPY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24" name=""/>
          <p:cNvSpPr txBox="1"/>
          <p:nvPr/>
        </p:nvSpPr>
        <p:spPr>
          <a:xfrm>
            <a:off x="456840" y="1676520"/>
            <a:ext cx="404028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2-D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reates a flat image with extreme detai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an enhance contrast by staining atoms with heavy metal dy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5" name=""/>
          <p:cNvSpPr txBox="1"/>
          <p:nvPr/>
        </p:nvSpPr>
        <p:spPr>
          <a:xfrm>
            <a:off x="4876560" y="1676520"/>
            <a:ext cx="40417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3-D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Used for detailed study of surface of specime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Gives great field of depth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6" name=""/>
          <p:cNvSpPr txBox="1"/>
          <p:nvPr/>
        </p:nvSpPr>
        <p:spPr>
          <a:xfrm>
            <a:off x="475200" y="1207440"/>
            <a:ext cx="4003560" cy="34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59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entury Schoolbook"/>
              </a:rPr>
              <a:t>Transmission (TEM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7" name=""/>
          <p:cNvSpPr txBox="1"/>
          <p:nvPr/>
        </p:nvSpPr>
        <p:spPr>
          <a:xfrm>
            <a:off x="4663080" y="1207440"/>
            <a:ext cx="4005000" cy="34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59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entury Schoolbook"/>
              </a:rPr>
              <a:t>Scanning (SEM)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628" name="Picture 1" descr="06_03iMicroscopy-L.jpg"/>
          <p:cNvPicPr/>
          <p:nvPr/>
        </p:nvPicPr>
        <p:blipFill>
          <a:blip r:embed="rId1"/>
          <a:stretch/>
        </p:blipFill>
        <p:spPr>
          <a:xfrm>
            <a:off x="5697360" y="4251240"/>
            <a:ext cx="1846440" cy="2606760"/>
          </a:xfrm>
          <a:prstGeom prst="rect">
            <a:avLst/>
          </a:prstGeom>
          <a:ln w="0">
            <a:noFill/>
          </a:ln>
        </p:spPr>
      </p:pic>
      <p:pic>
        <p:nvPicPr>
          <p:cNvPr id="629" name="Picture 2" descr="06_03jMicroscopy-L.jpg"/>
          <p:cNvPicPr/>
          <p:nvPr/>
        </p:nvPicPr>
        <p:blipFill>
          <a:blip r:embed="rId2"/>
          <a:stretch/>
        </p:blipFill>
        <p:spPr>
          <a:xfrm>
            <a:off x="1371600" y="4191120"/>
            <a:ext cx="2259000" cy="2666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Rectangle 4"/>
          <p:cNvSpPr/>
          <p:nvPr/>
        </p:nvSpPr>
        <p:spPr>
          <a:xfrm>
            <a:off x="152280" y="-76320"/>
            <a:ext cx="532152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20001"/>
                </a:solidFill>
                <a:latin typeface="Arial"/>
              </a:rPr>
              <a:t>Studying cell structure &amp; fun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Rectangle 7"/>
          <p:cNvSpPr/>
          <p:nvPr/>
        </p:nvSpPr>
        <p:spPr>
          <a:xfrm>
            <a:off x="380880" y="1523880"/>
            <a:ext cx="472464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marL="514440" indent="-514440">
              <a:lnSpc>
                <a:spcPct val="100000"/>
              </a:lnSpc>
              <a:buClr>
                <a:srgbClr val="e75c01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e75c01"/>
                </a:solidFill>
                <a:uFillTx/>
                <a:latin typeface="Arial"/>
              </a:rPr>
              <a:t>Cell fractionation</a:t>
            </a:r>
            <a:r>
              <a:rPr b="1" lang="en-US" sz="2800" spc="-1" strike="noStrike">
                <a:solidFill>
                  <a:srgbClr val="e75c01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20001"/>
                </a:solidFill>
                <a:latin typeface="Arial"/>
              </a:rPr>
              <a:t>- take apart cells, separate major organel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buClr>
                <a:srgbClr val="e75c01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e75c01"/>
                </a:solidFill>
                <a:uFillTx/>
                <a:latin typeface="Arial"/>
              </a:rPr>
              <a:t>Ultracentrifug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20001"/>
                </a:solidFill>
                <a:latin typeface="Arial"/>
              </a:rPr>
              <a:t>- applies force 1 million times the force of gravity to separate further the cell organelles with the most dense at the bott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2" name="Picture 1" descr="06_04_CellFractionation-L.jpg"/>
          <p:cNvPicPr/>
          <p:nvPr/>
        </p:nvPicPr>
        <p:blipFill>
          <a:blip r:embed="rId1"/>
          <a:stretch/>
        </p:blipFill>
        <p:spPr>
          <a:xfrm>
            <a:off x="5570640" y="-7920"/>
            <a:ext cx="3649680" cy="686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5f6d"/>
                </a:solidFill>
                <a:latin typeface="Century Schoolbook"/>
              </a:rPr>
              <a:t>2 TYPES OF CELLS: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34" name=""/>
          <p:cNvSpPr txBox="1"/>
          <p:nvPr/>
        </p:nvSpPr>
        <p:spPr>
          <a:xfrm>
            <a:off x="456840" y="121932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01"/>
              </a:spcBef>
              <a:buClr>
                <a:srgbClr val="e75c01"/>
              </a:buClr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e75c01"/>
                </a:solidFill>
                <a:uFillTx/>
                <a:latin typeface="Century Schoolbook"/>
              </a:rPr>
              <a:t>Prokaryotes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: Domain Bacteria &amp; Archaea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514440" indent="-514440">
              <a:spcBef>
                <a:spcPts val="601"/>
              </a:spcBef>
              <a:buClr>
                <a:srgbClr val="e75c01"/>
              </a:buClr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e75c01"/>
                </a:solidFill>
                <a:uFillTx/>
                <a:latin typeface="Century Schoolbook"/>
              </a:rPr>
              <a:t>Eukaryotes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 (Domain Eukarya): Protists, Fungi, Plants, Animals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635" name="Picture 1" descr="06_05aProkaryoticCell-L.jpg"/>
          <p:cNvPicPr/>
          <p:nvPr/>
        </p:nvPicPr>
        <p:blipFill>
          <a:blip r:embed="rId1"/>
          <a:stretch/>
        </p:blipFill>
        <p:spPr>
          <a:xfrm>
            <a:off x="1219320" y="3276720"/>
            <a:ext cx="2324160" cy="3405240"/>
          </a:xfrm>
          <a:prstGeom prst="rect">
            <a:avLst/>
          </a:prstGeom>
          <a:ln w="0">
            <a:noFill/>
          </a:ln>
        </p:spPr>
      </p:pic>
      <p:pic>
        <p:nvPicPr>
          <p:cNvPr id="636" name="Picture 2" descr="06_08baEukaryoticCell-L.jpg"/>
          <p:cNvPicPr/>
          <p:nvPr/>
        </p:nvPicPr>
        <p:blipFill>
          <a:blip r:embed="rId2"/>
          <a:stretch/>
        </p:blipFill>
        <p:spPr>
          <a:xfrm>
            <a:off x="4648320" y="3276720"/>
            <a:ext cx="3886200" cy="32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Rectangle 6"/>
          <p:cNvSpPr/>
          <p:nvPr/>
        </p:nvSpPr>
        <p:spPr>
          <a:xfrm>
            <a:off x="45720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20001"/>
                </a:solidFill>
                <a:latin typeface="Century Schoolbook"/>
              </a:rPr>
              <a:t>A PROKARYOTIC CELL (BACTERIA)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639" name="Picture 1" descr="06_05_ProkaryoticCell-L.jpg"/>
          <p:cNvPicPr/>
          <p:nvPr/>
        </p:nvPicPr>
        <p:blipFill>
          <a:blip r:embed="rId1"/>
          <a:stretch/>
        </p:blipFill>
        <p:spPr>
          <a:xfrm>
            <a:off x="457200" y="963720"/>
            <a:ext cx="8166240" cy="5894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75f6d"/>
                </a:solidFill>
                <a:latin typeface="Century Schoolbook"/>
              </a:rPr>
              <a:t>PROKARYOTE VS. </a:t>
            </a:r>
            <a:r>
              <a:rPr b="0" lang="en-US" sz="4400" spc="-1" strike="noStrike">
                <a:solidFill>
                  <a:srgbClr val="ff9933"/>
                </a:solidFill>
                <a:latin typeface="Century Schoolbook"/>
              </a:rPr>
              <a:t>EUKARYOTE</a:t>
            </a:r>
            <a:endParaRPr b="0" lang="en-US" sz="4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1" name=""/>
          <p:cNvSpPr txBox="1"/>
          <p:nvPr/>
        </p:nvSpPr>
        <p:spPr>
          <a:xfrm>
            <a:off x="457200" y="1036440"/>
            <a:ext cx="403848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575f6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Century Schoolbook"/>
                <a:ea typeface="MS PMincho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Century Schoolbook"/>
                <a:ea typeface="MS PMincho"/>
              </a:rPr>
              <a:t>before</a:t>
            </a:r>
            <a:r>
              <a:rPr b="0" lang="ja-JP" sz="2600" spc="-1" strike="noStrike">
                <a:solidFill>
                  <a:srgbClr val="000000"/>
                </a:solidFill>
                <a:latin typeface="Century Schoolbook"/>
                <a:ea typeface="MS PMincho"/>
              </a:rPr>
              <a:t>”</a:t>
            </a:r>
            <a:r>
              <a:rPr b="0" lang="en-US" sz="2600" spc="-1" strike="noStrike">
                <a:solidFill>
                  <a:srgbClr val="000000"/>
                </a:solidFill>
                <a:latin typeface="Century Schoolbook"/>
                <a:ea typeface="MS PMincho"/>
              </a:rPr>
              <a:t> </a:t>
            </a:r>
            <a:r>
              <a:rPr b="0" lang="ja-JP" sz="2600" spc="-1" strike="noStrike">
                <a:solidFill>
                  <a:srgbClr val="000000"/>
                </a:solidFill>
                <a:latin typeface="Century Schoolbook"/>
                <a:ea typeface="MS PMincho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Century Schoolbook"/>
                <a:ea typeface="MS PMincho"/>
              </a:rPr>
              <a:t>kernel</a:t>
            </a:r>
            <a:r>
              <a:rPr b="0" lang="ja-JP" sz="2600" spc="-1" strike="noStrike">
                <a:solidFill>
                  <a:srgbClr val="000000"/>
                </a:solidFill>
                <a:latin typeface="Century Schoolbook"/>
                <a:ea typeface="MS PMincho"/>
              </a:rPr>
              <a:t>”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575f6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No nucleus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575f6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DNA in a nucleoid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575f6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Cytosol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575f6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No organelles other than ribosomes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575f6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Small size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575f6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Primitive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575f6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i.e. Bacteria &amp; Archaea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42" name=""/>
          <p:cNvSpPr txBox="1"/>
          <p:nvPr/>
        </p:nvSpPr>
        <p:spPr>
          <a:xfrm>
            <a:off x="4647960" y="1036440"/>
            <a:ext cx="426708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Century Schoolbook"/>
                <a:ea typeface="MS PMincho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Century Schoolbook"/>
                <a:ea typeface="MS PMincho"/>
              </a:rPr>
              <a:t>true</a:t>
            </a:r>
            <a:r>
              <a:rPr b="0" lang="ja-JP" sz="2600" spc="-1" strike="noStrike">
                <a:solidFill>
                  <a:srgbClr val="000000"/>
                </a:solidFill>
                <a:latin typeface="Century Schoolbook"/>
                <a:ea typeface="MS PMincho"/>
              </a:rPr>
              <a:t>”</a:t>
            </a:r>
            <a:r>
              <a:rPr b="0" lang="en-US" sz="2600" spc="-1" strike="noStrike">
                <a:solidFill>
                  <a:srgbClr val="000000"/>
                </a:solidFill>
                <a:latin typeface="Century Schoolbook"/>
                <a:ea typeface="MS PMincho"/>
              </a:rPr>
              <a:t> </a:t>
            </a:r>
            <a:r>
              <a:rPr b="0" lang="ja-JP" sz="2600" spc="-1" strike="noStrike">
                <a:solidFill>
                  <a:srgbClr val="000000"/>
                </a:solidFill>
                <a:latin typeface="Century Schoolbook"/>
                <a:ea typeface="MS PMincho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Century Schoolbook"/>
                <a:ea typeface="MS PMincho"/>
              </a:rPr>
              <a:t>kernel</a:t>
            </a:r>
            <a:r>
              <a:rPr b="0" lang="ja-JP" sz="2600" spc="-1" strike="noStrike">
                <a:solidFill>
                  <a:srgbClr val="000000"/>
                </a:solidFill>
                <a:latin typeface="Century Schoolbook"/>
                <a:ea typeface="MS PMincho"/>
              </a:rPr>
              <a:t>”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Has nucleus and nuclear envelope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Cytosol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Membrane-bound organelles with specialized structure/function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Much larger in size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More complex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i.e. plant/animal cell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2285640" y="3124080"/>
            <a:ext cx="61722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75f6d"/>
                </a:solidFill>
                <a:latin typeface="Century Schoolbook"/>
              </a:rPr>
              <a:t>CELL SIZE AND SCAL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 type="subTitle"/>
          </p:nvPr>
        </p:nvSpPr>
        <p:spPr>
          <a:xfrm>
            <a:off x="2285640" y="4724280"/>
            <a:ext cx="6705720" cy="16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d2611c"/>
                </a:solidFill>
                <a:uFillTx/>
                <a:latin typeface="Century Schoolbook"/>
                <a:hlinkClick r:id="rId1"/>
              </a:rPr>
              <a:t>http://learn.genetics.utah.edu/content/begin/cells/scale/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575f6d"/>
                </a:solidFill>
                <a:uFillTx/>
                <a:latin typeface="Century Schoolbook"/>
              </a:rPr>
              <a:t>Scale of the Universe</a:t>
            </a: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http://www.onemorelevel.com/game/scale_of_the_universe_2012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"/>
          <p:cNvSpPr txBox="1"/>
          <p:nvPr/>
        </p:nvSpPr>
        <p:spPr>
          <a:xfrm>
            <a:off x="304560" y="75960"/>
            <a:ext cx="845820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Cells must be small to maintain a large </a:t>
            </a:r>
            <a:r>
              <a:rPr b="0" lang="en-US" sz="2800" spc="-1" strike="noStrike">
                <a:solidFill>
                  <a:srgbClr val="003399"/>
                </a:solidFill>
                <a:latin typeface="Century Schoolbook"/>
              </a:rPr>
              <a:t>surface area to volume ratio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Large S.A. allow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rates of chemical exchange between cell and environment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646" name="Picture 1" descr="06_07SurfaceVolume-L.jpg"/>
          <p:cNvPicPr/>
          <p:nvPr/>
        </p:nvPicPr>
        <p:blipFill>
          <a:blip r:embed="rId1"/>
          <a:stretch/>
        </p:blipFill>
        <p:spPr>
          <a:xfrm>
            <a:off x="1955880" y="2130480"/>
            <a:ext cx="5283000" cy="4727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5f6d"/>
                </a:solidFill>
                <a:latin typeface="Century Schoolbook"/>
              </a:rPr>
              <a:t>CH. 6 WARM-UP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9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fe8637"/>
              </a:buClr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How is the size of a cell related to its function?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spcBef>
                <a:spcPts val="601"/>
              </a:spcBef>
              <a:buClr>
                <a:srgbClr val="fe8637"/>
              </a:buClr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spcBef>
                <a:spcPts val="601"/>
              </a:spcBef>
              <a:buClr>
                <a:srgbClr val="fe8637"/>
              </a:buClr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Name 5 organelles or cell structures and their function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spcBef>
                <a:spcPts val="601"/>
              </a:spcBef>
              <a:buClr>
                <a:srgbClr val="fe8637"/>
              </a:buClr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Century Schoolbook"/>
              </a:rPr>
              <a:t>SURFACE AREA EXAMPLE (</a:t>
            </a:r>
            <a:r>
              <a:rPr b="0" lang="en-US" sz="3200" spc="-1" strike="noStrike">
                <a:solidFill>
                  <a:srgbClr val="c00000"/>
                </a:solidFill>
                <a:latin typeface="Century Schoolbook"/>
              </a:rPr>
              <a:t>ANIMAL</a:t>
            </a:r>
            <a:r>
              <a:rPr b="0" lang="en-US" sz="3200" spc="-1" strike="noStrike">
                <a:solidFill>
                  <a:srgbClr val="575f6d"/>
                </a:solidFill>
                <a:latin typeface="Century Schoolbook"/>
              </a:rPr>
              <a:t>):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8" name=""/>
          <p:cNvSpPr txBox="1"/>
          <p:nvPr/>
        </p:nvSpPr>
        <p:spPr>
          <a:xfrm>
            <a:off x="456840" y="4651200"/>
            <a:ext cx="8001000" cy="213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Century Schoolbook"/>
              </a:rPr>
              <a:t>Small Intestine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: </a:t>
            </a:r>
            <a:r>
              <a:rPr b="0" i="1" lang="en-US" sz="2800" spc="-1" strike="noStrike">
                <a:solidFill>
                  <a:srgbClr val="0070c0"/>
                </a:solidFill>
                <a:latin typeface="Century Schoolbook"/>
              </a:rPr>
              <a:t>highly folded surface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to increase absorption of nutrient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70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99"/>
                </a:solidFill>
                <a:uFillTx/>
                <a:latin typeface="Century Schoolbook"/>
              </a:rPr>
              <a:t>Villi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: finger-like projections on SI wall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70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99"/>
                </a:solidFill>
                <a:uFillTx/>
                <a:latin typeface="Century Schoolbook"/>
              </a:rPr>
              <a:t>Microvilli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: projections on each cell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649" name="Picture 4" descr="41_13_NutrientAbsorption-L.jpg"/>
          <p:cNvPicPr/>
          <p:nvPr/>
        </p:nvPicPr>
        <p:blipFill>
          <a:blip r:embed="rId1"/>
          <a:stretch/>
        </p:blipFill>
        <p:spPr>
          <a:xfrm>
            <a:off x="609480" y="755640"/>
            <a:ext cx="7848720" cy="374004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entury Schoolbook"/>
              </a:rPr>
              <a:t>FOLDS </a:t>
            </a:r>
            <a:r>
              <a:rPr b="1" lang="en-US" sz="3200" spc="-1" strike="noStrike">
                <a:solidFill>
                  <a:srgbClr val="0070c0"/>
                </a:solidFill>
                <a:latin typeface="Wingdings"/>
                <a:ea typeface="Wingdings"/>
              </a:rPr>
              <a:t></a:t>
            </a:r>
            <a:r>
              <a:rPr b="1" lang="en-US" sz="3200" spc="-1" strike="noStrike">
                <a:solidFill>
                  <a:srgbClr val="0070c0"/>
                </a:solidFill>
                <a:latin typeface="Century Schoolbook"/>
              </a:rPr>
              <a:t> VILLI </a:t>
            </a:r>
            <a:r>
              <a:rPr b="1" lang="en-US" sz="3200" spc="-1" strike="noStrike">
                <a:solidFill>
                  <a:srgbClr val="0070c0"/>
                </a:solidFill>
                <a:latin typeface="Wingdings"/>
                <a:ea typeface="Wingdings"/>
              </a:rPr>
              <a:t></a:t>
            </a:r>
            <a:r>
              <a:rPr b="1" lang="en-US" sz="3200" spc="-1" strike="noStrike">
                <a:solidFill>
                  <a:srgbClr val="0070c0"/>
                </a:solidFill>
                <a:latin typeface="Century Schoolbook"/>
              </a:rPr>
              <a:t> MICROVILLI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651" name="Picture 4" descr="41_13bNutrientAbsorption-L.jpg"/>
          <p:cNvPicPr/>
          <p:nvPr/>
        </p:nvPicPr>
        <p:blipFill>
          <a:blip r:embed="rId1"/>
          <a:stretch/>
        </p:blipFill>
        <p:spPr>
          <a:xfrm>
            <a:off x="0" y="1600200"/>
            <a:ext cx="6222960" cy="4849920"/>
          </a:xfrm>
          <a:prstGeom prst="rect">
            <a:avLst/>
          </a:prstGeom>
          <a:ln w="0">
            <a:noFill/>
          </a:ln>
        </p:spPr>
      </p:pic>
      <p:pic>
        <p:nvPicPr>
          <p:cNvPr id="652" name="Picture 5" descr="41_14_FatAbsorption-L.jpg"/>
          <p:cNvPicPr/>
          <p:nvPr/>
        </p:nvPicPr>
        <p:blipFill>
          <a:blip r:embed="rId2"/>
          <a:stretch/>
        </p:blipFill>
        <p:spPr>
          <a:xfrm>
            <a:off x="6303960" y="274680"/>
            <a:ext cx="2840040" cy="658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Century Schoolbook"/>
              </a:rPr>
              <a:t>SURFACE AREA EXAMPLE (</a:t>
            </a:r>
            <a:r>
              <a:rPr b="0" lang="en-US" sz="3200" spc="-1" strike="noStrike">
                <a:solidFill>
                  <a:srgbClr val="008000"/>
                </a:solidFill>
                <a:latin typeface="Century Schoolbook"/>
              </a:rPr>
              <a:t>PLANT</a:t>
            </a:r>
            <a:r>
              <a:rPr b="0" lang="en-US" sz="3200" spc="-1" strike="noStrike">
                <a:solidFill>
                  <a:srgbClr val="575f6d"/>
                </a:solidFill>
                <a:latin typeface="Century Schoolbook"/>
              </a:rPr>
              <a:t>):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54" name=""/>
          <p:cNvSpPr txBox="1"/>
          <p:nvPr/>
        </p:nvSpPr>
        <p:spPr>
          <a:xfrm>
            <a:off x="456840" y="761760"/>
            <a:ext cx="80010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8000"/>
                </a:solidFill>
                <a:uFillTx/>
                <a:latin typeface="Century Schoolbook"/>
              </a:rPr>
              <a:t>Root hairs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: extensions of root epidermal cells; increase surface area for absorbing water and mineral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655" name="Picture 6" descr="35_03RootHairs-L.jpg"/>
          <p:cNvPicPr/>
          <p:nvPr/>
        </p:nvPicPr>
        <p:blipFill>
          <a:blip r:embed="rId1"/>
          <a:stretch/>
        </p:blipFill>
        <p:spPr>
          <a:xfrm>
            <a:off x="4724280" y="2362320"/>
            <a:ext cx="2853000" cy="39574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656" name="Picture 8" descr="35_02FloweringPlant-U.jpg"/>
          <p:cNvPicPr/>
          <p:nvPr/>
        </p:nvPicPr>
        <p:blipFill>
          <a:blip r:embed="rId2"/>
          <a:stretch/>
        </p:blipFill>
        <p:spPr>
          <a:xfrm>
            <a:off x="1371600" y="2367000"/>
            <a:ext cx="2590920" cy="39574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75c01"/>
                </a:solidFill>
                <a:latin typeface="Century Schoolbook"/>
              </a:rPr>
              <a:t>NUCLEUS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58" name=""/>
          <p:cNvSpPr txBox="1"/>
          <p:nvPr/>
        </p:nvSpPr>
        <p:spPr>
          <a:xfrm>
            <a:off x="45720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Function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: control center of cel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ontains DN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urrounded by double membrane (</a:t>
            </a:r>
            <a:r>
              <a:rPr b="1" lang="en-US" sz="2400" spc="-1" strike="noStrike">
                <a:solidFill>
                  <a:srgbClr val="ff0000"/>
                </a:solidFill>
                <a:latin typeface="Century Schoolbook"/>
              </a:rPr>
              <a:t>nuclear envelope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ontinuous with the rough ER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Century Schoolbook"/>
              </a:rPr>
              <a:t>Nuclear pores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: control what enters/leaves nucleu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Century Schoolbook"/>
              </a:rPr>
              <a:t>Chromatin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: complex of DNA + proteins; makes up chromosom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Century Schoolbook"/>
              </a:rPr>
              <a:t>Nucleolus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: region where ribosomal subunits are formed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659" name="Picture 4" descr="06_09cNucleus-L.jpg"/>
          <p:cNvPicPr/>
          <p:nvPr/>
        </p:nvPicPr>
        <p:blipFill>
          <a:blip r:embed="rId1"/>
          <a:stretch/>
        </p:blipFill>
        <p:spPr>
          <a:xfrm>
            <a:off x="4856040" y="4724280"/>
            <a:ext cx="3764160" cy="2133720"/>
          </a:xfrm>
          <a:prstGeom prst="rect">
            <a:avLst/>
          </a:prstGeom>
          <a:ln w="0">
            <a:noFill/>
          </a:ln>
        </p:spPr>
      </p:pic>
      <p:pic>
        <p:nvPicPr>
          <p:cNvPr id="660" name="Picture 6" descr="06_09bNucleus-L.jpg"/>
          <p:cNvPicPr/>
          <p:nvPr/>
        </p:nvPicPr>
        <p:blipFill>
          <a:blip r:embed="rId2"/>
          <a:stretch/>
        </p:blipFill>
        <p:spPr>
          <a:xfrm>
            <a:off x="2209680" y="4629240"/>
            <a:ext cx="2514600" cy="22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75f6d"/>
                </a:solidFill>
                <a:latin typeface="Century Schoolbook"/>
              </a:rPr>
              <a:t>NUCLEUS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62" name=""/>
          <p:cNvSpPr txBox="1"/>
          <p:nvPr/>
        </p:nvSpPr>
        <p:spPr>
          <a:xfrm>
            <a:off x="45720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ontains DN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unction: control center of cel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urrounded by double membrane (</a:t>
            </a:r>
            <a:r>
              <a:rPr b="1" lang="en-US" sz="2400" spc="-1" strike="noStrike">
                <a:solidFill>
                  <a:srgbClr val="ff0000"/>
                </a:solidFill>
                <a:latin typeface="Century Schoolbook"/>
              </a:rPr>
              <a:t>nuclear envelope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ontinuous with the rough ER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Century Schoolbook"/>
              </a:rPr>
              <a:t>Nuclear pores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: control what enters/leaves nucleu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Century Schoolbook"/>
              </a:rPr>
              <a:t>Chromatin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: complex of DNA + proteins; makes up chromosom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Century Schoolbook"/>
              </a:rPr>
              <a:t>Nucleolus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: region where ribosomal subunits are formed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663" name="Picture 4" descr="06_09cNucleus-L.jpg"/>
          <p:cNvPicPr/>
          <p:nvPr/>
        </p:nvPicPr>
        <p:blipFill>
          <a:blip r:embed="rId1"/>
          <a:stretch/>
        </p:blipFill>
        <p:spPr>
          <a:xfrm>
            <a:off x="4724280" y="4648320"/>
            <a:ext cx="3525840" cy="1998720"/>
          </a:xfrm>
          <a:prstGeom prst="rect">
            <a:avLst/>
          </a:prstGeom>
          <a:ln w="0">
            <a:noFill/>
          </a:ln>
        </p:spPr>
      </p:pic>
      <p:pic>
        <p:nvPicPr>
          <p:cNvPr id="664" name="Picture 5" descr="06_09aNucleus-L.jpg"/>
          <p:cNvPicPr/>
          <p:nvPr/>
        </p:nvPicPr>
        <p:blipFill>
          <a:blip r:embed="rId2"/>
          <a:stretch/>
        </p:blipFill>
        <p:spPr>
          <a:xfrm>
            <a:off x="298440" y="136440"/>
            <a:ext cx="8547120" cy="658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74674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75c01"/>
                </a:solidFill>
                <a:latin typeface="Century Schoolbook"/>
              </a:rPr>
              <a:t>RIBOSOMES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66" name=""/>
          <p:cNvSpPr txBox="1"/>
          <p:nvPr/>
        </p:nvSpPr>
        <p:spPr>
          <a:xfrm>
            <a:off x="457200" y="685440"/>
            <a:ext cx="822960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Function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: protein synthesi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omposed of rRNA + protei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Large subunit + small subuni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ypes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971640" indent="-514440">
              <a:spcBef>
                <a:spcPts val="601"/>
              </a:spcBef>
              <a:buClr>
                <a:srgbClr val="fe8637"/>
              </a:buClr>
              <a:buSzPct val="80000"/>
              <a:buFont typeface="Century Schoolbook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Century Schoolbook"/>
              </a:rPr>
              <a:t>Free ribosomes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: float in cytosol, produce proteins used within cel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971640" indent="-514440">
              <a:spcBef>
                <a:spcPts val="601"/>
              </a:spcBef>
              <a:buClr>
                <a:srgbClr val="fe8637"/>
              </a:buClr>
              <a:buSzPct val="80000"/>
              <a:buFont typeface="Century Schoolbook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Century Schoolbook"/>
              </a:rPr>
              <a:t>Bound ribosomes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: attached to ER, make proteins for export from cel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667" name="Picture 3" descr="06_10_Ribosomes-L.jpg"/>
          <p:cNvPicPr/>
          <p:nvPr/>
        </p:nvPicPr>
        <p:blipFill>
          <a:blip r:embed="rId1"/>
          <a:stretch/>
        </p:blipFill>
        <p:spPr>
          <a:xfrm>
            <a:off x="2209680" y="4054320"/>
            <a:ext cx="4876920" cy="280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2285640" y="2895120"/>
            <a:ext cx="6172200" cy="20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39d"/>
                </a:solidFill>
                <a:uFillTx/>
                <a:latin typeface="Century Schoolbook"/>
              </a:rPr>
              <a:t>ENDOMEMBRANE SYSTEM</a:t>
            </a:r>
            <a:r>
              <a:rPr b="1" lang="en-US" sz="3200" spc="-1" strike="noStrike">
                <a:solidFill>
                  <a:srgbClr val="fff39d"/>
                </a:solidFill>
                <a:latin typeface="Century Schoolbook"/>
              </a:rPr>
              <a:t>:</a:t>
            </a:r>
            <a:endParaRPr b="0" lang="en-US" sz="32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2285640" y="50101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39d"/>
                </a:solidFill>
                <a:latin typeface="Century Schoolbook"/>
              </a:rPr>
              <a:t>Regulates protein traffic &amp; performs metabolic functions    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pic>
        <p:nvPicPr>
          <p:cNvPr id="670" name="Picture 1" descr="06_15EndomembraneSystem_3-L.jpg"/>
          <p:cNvPicPr/>
          <p:nvPr/>
        </p:nvPicPr>
        <p:blipFill>
          <a:blip r:embed="rId1"/>
          <a:stretch/>
        </p:blipFill>
        <p:spPr>
          <a:xfrm>
            <a:off x="2362320" y="555480"/>
            <a:ext cx="5410080" cy="37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e75c01"/>
                </a:solidFill>
                <a:uFillTx/>
                <a:latin typeface="Century Schoolbook"/>
              </a:rPr>
              <a:t>ENDOPLASMIC RETICULUM (ER)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72" name=""/>
          <p:cNvSpPr txBox="1"/>
          <p:nvPr/>
        </p:nvSpPr>
        <p:spPr>
          <a:xfrm>
            <a:off x="456840" y="1523880"/>
            <a:ext cx="7467480" cy="495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Network of membranes and sac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ypes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822240" indent="-457200">
              <a:spcBef>
                <a:spcPts val="601"/>
              </a:spcBef>
              <a:buClr>
                <a:srgbClr val="fe8637"/>
              </a:buClr>
              <a:buSzPct val="8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e75c01"/>
                </a:solidFill>
                <a:uFillTx/>
                <a:latin typeface="Century Schoolbook"/>
              </a:rPr>
              <a:t>Rough ER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: ribosomes on surfac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028880" indent="-22860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Function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: package proteins for secretion, send transport vesicles to Golgi, make replacement membran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822240" indent="-457200">
              <a:spcBef>
                <a:spcPts val="601"/>
              </a:spcBef>
              <a:buClr>
                <a:srgbClr val="fe8637"/>
              </a:buClr>
              <a:buSzPct val="8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e75c01"/>
                </a:solidFill>
                <a:uFillTx/>
                <a:latin typeface="Century Schoolbook"/>
              </a:rPr>
              <a:t>Smooth ER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: no ribosomes on surfac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028880" indent="-22860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Function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: synthesize lipids, metabolize carbs, detox drugs &amp; poisons, store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entury Schoolbook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74674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75c01"/>
                </a:solidFill>
                <a:latin typeface="Century Schoolbook"/>
              </a:rPr>
              <a:t>ENDOPLASMIC RETICULUM (ER)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674" name="Content Placeholder 3" descr="06_11_EndoplsmcReticulum-L.jpg"/>
          <p:cNvPicPr/>
          <p:nvPr/>
        </p:nvPicPr>
        <p:blipFill>
          <a:blip r:embed="rId1"/>
          <a:stretch/>
        </p:blipFill>
        <p:spPr>
          <a:xfrm>
            <a:off x="1841400" y="1066680"/>
            <a:ext cx="4940280" cy="557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4674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75c01"/>
                </a:solidFill>
                <a:latin typeface="Century Schoolbook"/>
              </a:rPr>
              <a:t>GOLGI APPARATUS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76" name=""/>
          <p:cNvSpPr txBox="1"/>
          <p:nvPr/>
        </p:nvSpPr>
        <p:spPr>
          <a:xfrm>
            <a:off x="304560" y="762120"/>
            <a:ext cx="8381880" cy="563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Function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: synthesis &amp; packaging of materials (small molecules) for transport (in vesicles); produce lysosom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ries of flattened membrane sacs (cisternae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75c01"/>
                </a:solidFill>
                <a:latin typeface="Century Schoolbook"/>
              </a:rPr>
              <a:t>Cis</a:t>
            </a:r>
            <a:r>
              <a:rPr b="1" lang="en-US" sz="2400" spc="-1" strike="noStrike">
                <a:solidFill>
                  <a:srgbClr val="e75c01"/>
                </a:solidFill>
                <a:latin typeface="Century Schoolbook"/>
              </a:rPr>
              <a:t> face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: receives vesicl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75c01"/>
                </a:solidFill>
                <a:latin typeface="Century Schoolbook"/>
              </a:rPr>
              <a:t>Trans</a:t>
            </a:r>
            <a:r>
              <a:rPr b="1" lang="en-US" sz="2400" spc="-1" strike="noStrike">
                <a:solidFill>
                  <a:srgbClr val="e75c01"/>
                </a:solidFill>
                <a:latin typeface="Century Schoolbook"/>
              </a:rPr>
              <a:t> face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: ships vesicl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677" name="Picture 3" descr="06_12_GolgiApparatus-L.jpg"/>
          <p:cNvPicPr/>
          <p:nvPr/>
        </p:nvPicPr>
        <p:blipFill>
          <a:blip r:embed="rId1"/>
          <a:stretch/>
        </p:blipFill>
        <p:spPr>
          <a:xfrm>
            <a:off x="673200" y="3129120"/>
            <a:ext cx="7632720" cy="37288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WARM-UP ACTIVITY: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9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Pick up handout on back counter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Complete this handout for your warm-up activity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74674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entury Schoolbook"/>
              </a:rPr>
              <a:t>LYSOSOMES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79" name=""/>
          <p:cNvSpPr txBox="1"/>
          <p:nvPr/>
        </p:nvSpPr>
        <p:spPr>
          <a:xfrm>
            <a:off x="456840" y="1066320"/>
            <a:ext cx="8381880" cy="525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Function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: intracellular digestion; recycle cell</a:t>
            </a:r>
            <a:r>
              <a:rPr b="0" lang="ja-JP" sz="2400" spc="-1" strike="noStrike">
                <a:solidFill>
                  <a:srgbClr val="000000"/>
                </a:solidFill>
                <a:latin typeface="Century Schoolbook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 materials; programmed cell death (apoptosis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ontains</a:t>
            </a:r>
            <a:r>
              <a:rPr b="1" lang="en-US" sz="2400" spc="-1" strike="noStrike">
                <a:solidFill>
                  <a:srgbClr val="e75c01"/>
                </a:solidFill>
                <a:latin typeface="Century Schoolbook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Century Schoolbook"/>
              </a:rPr>
              <a:t>hydrolytic enzym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680" name="Picture 3" descr="06_13_Lysosomes-L.jpg"/>
          <p:cNvPicPr/>
          <p:nvPr/>
        </p:nvPicPr>
        <p:blipFill>
          <a:blip r:embed="rId1"/>
          <a:stretch/>
        </p:blipFill>
        <p:spPr>
          <a:xfrm>
            <a:off x="679320" y="2362320"/>
            <a:ext cx="79092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6840" y="3240"/>
            <a:ext cx="74674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75c01"/>
                </a:solidFill>
                <a:latin typeface="Century Schoolbook"/>
              </a:rPr>
              <a:t>VACUOLES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82" name=""/>
          <p:cNvSpPr txBox="1"/>
          <p:nvPr/>
        </p:nvSpPr>
        <p:spPr>
          <a:xfrm>
            <a:off x="456840" y="917640"/>
            <a:ext cx="8381880" cy="525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Function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: storage of materials (food, water, minerals, pigments, poisons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Membrane-bound vesicl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Eg. food vacuoles, contractile vacuol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Century Schoolbook"/>
              </a:rPr>
              <a:t>Plants: </a:t>
            </a:r>
            <a:r>
              <a:rPr b="1" lang="en-US" sz="2400" spc="-1" strike="noStrike" u="sng">
                <a:solidFill>
                  <a:srgbClr val="008000"/>
                </a:solidFill>
                <a:uFillTx/>
                <a:latin typeface="Century Schoolbook"/>
              </a:rPr>
              <a:t>large central vacuole</a:t>
            </a:r>
            <a:r>
              <a:rPr b="1" lang="en-US" sz="2400" spc="-1" strike="noStrike">
                <a:solidFill>
                  <a:srgbClr val="008000"/>
                </a:solidFill>
                <a:latin typeface="Century Schoolbook"/>
              </a:rPr>
              <a:t> -- stores water, ion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683" name="Picture 4" descr="06_14_PlantCellVacuole-L.jpg"/>
          <p:cNvPicPr/>
          <p:nvPr/>
        </p:nvPicPr>
        <p:blipFill>
          <a:blip r:embed="rId1"/>
          <a:stretch/>
        </p:blipFill>
        <p:spPr>
          <a:xfrm>
            <a:off x="1981080" y="3276720"/>
            <a:ext cx="441972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4" name="Picture 3" descr="06_15EndomembraneSystem_1-L.jpg"/>
          <p:cNvPicPr/>
          <p:nvPr/>
        </p:nvPicPr>
        <p:blipFill>
          <a:blip r:embed="rId1"/>
          <a:stretch/>
        </p:blipFill>
        <p:spPr>
          <a:xfrm>
            <a:off x="298440" y="496800"/>
            <a:ext cx="8547120" cy="586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5" name="Picture 1" descr="06_15EndomembraneSystem_2-L.jpg"/>
          <p:cNvPicPr/>
          <p:nvPr/>
        </p:nvPicPr>
        <p:blipFill>
          <a:blip r:embed="rId1"/>
          <a:stretch/>
        </p:blipFill>
        <p:spPr>
          <a:xfrm>
            <a:off x="298440" y="496800"/>
            <a:ext cx="8547120" cy="586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6" name="Picture 1" descr="06_15EndomembraneSystem_3-L.jpg"/>
          <p:cNvPicPr/>
          <p:nvPr/>
        </p:nvPicPr>
        <p:blipFill>
          <a:blip r:embed="rId1"/>
          <a:stretch/>
        </p:blipFill>
        <p:spPr>
          <a:xfrm>
            <a:off x="298440" y="496800"/>
            <a:ext cx="8547120" cy="586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Rectangle 5"/>
          <p:cNvSpPr/>
          <p:nvPr/>
        </p:nvSpPr>
        <p:spPr>
          <a:xfrm>
            <a:off x="380880" y="533520"/>
            <a:ext cx="807732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20001"/>
                </a:solidFill>
                <a:latin typeface="Arial"/>
              </a:rPr>
              <a:t>Parts of plant &amp; animal cell p 108-10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8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22032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0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9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89917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4674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entury Schoolbook"/>
              </a:rPr>
              <a:t>MITOCHONDRIA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1" name=""/>
          <p:cNvSpPr txBox="1"/>
          <p:nvPr/>
        </p:nvSpPr>
        <p:spPr>
          <a:xfrm>
            <a:off x="457200" y="914400"/>
            <a:ext cx="8229600" cy="525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Function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: site of cellular respiratio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Double membrane: </a:t>
            </a:r>
            <a:r>
              <a:rPr b="1" lang="en-US" sz="2400" spc="-1" strike="noStrike">
                <a:solidFill>
                  <a:srgbClr val="ff0000"/>
                </a:solidFill>
                <a:latin typeface="Century Schoolbook"/>
              </a:rPr>
              <a:t>outer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and </a:t>
            </a:r>
            <a:r>
              <a:rPr b="1" lang="en-US" sz="2400" spc="-1" strike="noStrike">
                <a:solidFill>
                  <a:srgbClr val="ff0000"/>
                </a:solidFill>
                <a:latin typeface="Century Schoolbook"/>
              </a:rPr>
              <a:t>inner membran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entury Schoolbook"/>
              </a:rPr>
              <a:t>Cristae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: folds of inner membrane; contains enzymes for ATP production; increased surface area to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ATP mad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entury Schoolbook"/>
              </a:rPr>
              <a:t>Matrix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: fluid-filled inner compartmen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692" name="Picture 5" descr="06_17_Mitochondrion-L.jpg"/>
          <p:cNvPicPr/>
          <p:nvPr/>
        </p:nvPicPr>
        <p:blipFill>
          <a:blip r:embed="rId1"/>
          <a:stretch/>
        </p:blipFill>
        <p:spPr>
          <a:xfrm>
            <a:off x="298440" y="3333600"/>
            <a:ext cx="8547120" cy="35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74674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Century Schoolbook"/>
              </a:rPr>
              <a:t>CHLOROPLASTS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4" name=""/>
          <p:cNvSpPr txBox="1"/>
          <p:nvPr/>
        </p:nvSpPr>
        <p:spPr>
          <a:xfrm>
            <a:off x="456840" y="1066320"/>
            <a:ext cx="7467480" cy="525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Function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: site of photosynthesi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Double membran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ylakoid disks in stacks (grana); stroma (fluid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ontains </a:t>
            </a:r>
            <a:r>
              <a:rPr b="1" lang="en-US" sz="2400" spc="-1" strike="noStrike">
                <a:solidFill>
                  <a:srgbClr val="008000"/>
                </a:solidFill>
                <a:latin typeface="Century Schoolbook"/>
              </a:rPr>
              <a:t>chlorophylls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(pigments) for capturing sunlight energy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695" name="Picture 5" descr="06_18_Chloroplast-L.jpg"/>
          <p:cNvPicPr/>
          <p:nvPr/>
        </p:nvPicPr>
        <p:blipFill>
          <a:blip r:embed="rId1"/>
          <a:stretch/>
        </p:blipFill>
        <p:spPr>
          <a:xfrm>
            <a:off x="298440" y="3618000"/>
            <a:ext cx="8547120" cy="27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ILLUSTRATIVE EXAMPLES: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Variations within molecules provide a wider range of functions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hlorophyll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H. 6 WARM-UP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graphicFrame>
        <p:nvGraphicFramePr>
          <p:cNvPr id="600" name=""/>
          <p:cNvGraphicFramePr/>
          <p:nvPr/>
        </p:nvGraphicFramePr>
        <p:xfrm>
          <a:off x="457200" y="1905120"/>
          <a:ext cx="8229600" cy="44193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847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Animal Cell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Plant Cell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7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1" name="TextBox 6"/>
          <p:cNvSpPr/>
          <p:nvPr/>
        </p:nvSpPr>
        <p:spPr>
          <a:xfrm>
            <a:off x="533520" y="114300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are and contrast Animal vs. Plant Cel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6840" y="5029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0a0"/>
                </a:solidFill>
                <a:latin typeface="Century Schoolbook"/>
              </a:rPr>
              <a:t>ENDOSYMBIONT THEORY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9" name=""/>
          <p:cNvSpPr txBox="1"/>
          <p:nvPr/>
        </p:nvSpPr>
        <p:spPr>
          <a:xfrm>
            <a:off x="4419360" y="1526760"/>
            <a:ext cx="4724280" cy="517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Mitochondria &amp; chloroplasts share similar origi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rokaryotic cells engulfed by ancestors of eukaryotic cell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Evidence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Double-membrane structur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Have own ribosomes &amp; DN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Reproduce independently within cel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700" name="Picture 3" descr="06_16EndosymbiontTheory-L.jpg"/>
          <p:cNvPicPr/>
          <p:nvPr/>
        </p:nvPicPr>
        <p:blipFill>
          <a:blip r:embed="rId1"/>
          <a:stretch/>
        </p:blipFill>
        <p:spPr>
          <a:xfrm>
            <a:off x="76320" y="1450800"/>
            <a:ext cx="4267080" cy="41929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74674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75c01"/>
                </a:solidFill>
                <a:latin typeface="Century Schoolbook"/>
              </a:rPr>
              <a:t>PEROXISOMES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02" name=""/>
          <p:cNvSpPr txBox="1"/>
          <p:nvPr/>
        </p:nvSpPr>
        <p:spPr>
          <a:xfrm>
            <a:off x="456840" y="1066320"/>
            <a:ext cx="7467480" cy="525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Functions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: break down fatty acids; detox alcoho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nvolves production of hydrogen peroxide (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entury Schoolbook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entury Schoolbook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703" name="Picture 4" descr="06_19Peroxisome-L.jpg"/>
          <p:cNvPicPr/>
          <p:nvPr/>
        </p:nvPicPr>
        <p:blipFill>
          <a:blip r:embed="rId1"/>
          <a:stretch/>
        </p:blipFill>
        <p:spPr>
          <a:xfrm>
            <a:off x="1550880" y="2133720"/>
            <a:ext cx="5535720" cy="463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75c01"/>
                </a:solidFill>
                <a:latin typeface="Century Schoolbook"/>
              </a:rPr>
              <a:t>CYTOSKELETON</a:t>
            </a: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: NETWORK OF PROTEIN FIBER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05" name=""/>
          <p:cNvSpPr txBox="1"/>
          <p:nvPr/>
        </p:nvSpPr>
        <p:spPr>
          <a:xfrm>
            <a:off x="533160" y="990360"/>
            <a:ext cx="746748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Function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: support, motility, regulate biochemical activiti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706" name="Picture 11" descr="06_20Cytoskeleton-L.jpg"/>
          <p:cNvPicPr/>
          <p:nvPr/>
        </p:nvPicPr>
        <p:blipFill>
          <a:blip r:embed="rId1"/>
          <a:stretch/>
        </p:blipFill>
        <p:spPr>
          <a:xfrm>
            <a:off x="1295280" y="1981080"/>
            <a:ext cx="6429600" cy="450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7" name=""/>
          <p:cNvGraphicFramePr/>
          <p:nvPr/>
        </p:nvGraphicFramePr>
        <p:xfrm>
          <a:off x="304920" y="1371600"/>
          <a:ext cx="8610480" cy="839880"/>
        </p:xfrm>
        <a:graphic>
          <a:graphicData uri="http://schemas.openxmlformats.org/drawingml/2006/table">
            <a:tbl>
              <a:tblPr/>
              <a:tblGrid>
                <a:gridCol w="2869920"/>
                <a:gridCol w="2870280"/>
                <a:gridCol w="2870280"/>
              </a:tblGrid>
              <a:tr h="8398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Microtubu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32c16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Microfilamen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32c16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Intermediate Filamen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32c16"/>
                    </a:solidFill>
                  </a:tcPr>
                </a:tc>
              </a:tr>
            </a:tbl>
          </a:graphicData>
        </a:graphic>
      </p:graphicFrame>
      <p:sp>
        <p:nvSpPr>
          <p:cNvPr id="708" name="TextBox 8"/>
          <p:cNvSpPr/>
          <p:nvPr/>
        </p:nvSpPr>
        <p:spPr>
          <a:xfrm>
            <a:off x="304920" y="2360520"/>
            <a:ext cx="28191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 = tubul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rgest fib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ape/support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ck for organelle mov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ms spindle for mitosis/meio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 of cilia/flagel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TextBox 9"/>
          <p:cNvSpPr/>
          <p:nvPr/>
        </p:nvSpPr>
        <p:spPr>
          <a:xfrm>
            <a:off x="3200400" y="2360520"/>
            <a:ext cx="2819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 = act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est fib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rt cell on smaller sc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ell mov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g. ameboid movement, cytoplasmic streaming, muscle cell contr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TextBox 10"/>
          <p:cNvSpPr/>
          <p:nvPr/>
        </p:nvSpPr>
        <p:spPr>
          <a:xfrm>
            <a:off x="6095880" y="2360520"/>
            <a:ext cx="28195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mediate si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manent fix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 shape of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 position of organel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a3d01"/>
                </a:solidFill>
                <a:latin typeface="Century Schoolbook"/>
              </a:rPr>
              <a:t>3 TYPES OF CYTOSKELETON FIBERS: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2" name=""/>
          <p:cNvGraphicFramePr/>
          <p:nvPr/>
        </p:nvGraphicFramePr>
        <p:xfrm>
          <a:off x="304920" y="1371600"/>
          <a:ext cx="8610480" cy="839880"/>
        </p:xfrm>
        <a:graphic>
          <a:graphicData uri="http://schemas.openxmlformats.org/drawingml/2006/table">
            <a:tbl>
              <a:tblPr/>
              <a:tblGrid>
                <a:gridCol w="2869920"/>
                <a:gridCol w="2870280"/>
                <a:gridCol w="2870280"/>
              </a:tblGrid>
              <a:tr h="8398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Microtubu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32c16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Microfilamen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32c16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Intermediate Filamen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32c16"/>
                    </a:solidFill>
                  </a:tcPr>
                </a:tc>
              </a:tr>
            </a:tbl>
          </a:graphicData>
        </a:graphic>
      </p:graphicFrame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a3d01"/>
                </a:solidFill>
                <a:latin typeface="Century Schoolbook"/>
              </a:rPr>
              <a:t>3 TYPES OF CYTOSKELETON FIBERS: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714" name="Picture 6" descr="06_T01aaCytoskeletonStruc-L.jpg"/>
          <p:cNvPicPr/>
          <p:nvPr/>
        </p:nvPicPr>
        <p:blipFill>
          <a:blip r:embed="rId1"/>
          <a:stretch/>
        </p:blipFill>
        <p:spPr>
          <a:xfrm>
            <a:off x="304920" y="2379600"/>
            <a:ext cx="2895480" cy="2799000"/>
          </a:xfrm>
          <a:prstGeom prst="rect">
            <a:avLst/>
          </a:prstGeom>
          <a:ln w="0">
            <a:noFill/>
          </a:ln>
        </p:spPr>
      </p:pic>
      <p:pic>
        <p:nvPicPr>
          <p:cNvPr id="715" name="Picture 11" descr="06_T01bbCytoskeletonStruc-L.jpg"/>
          <p:cNvPicPr/>
          <p:nvPr/>
        </p:nvPicPr>
        <p:blipFill>
          <a:blip r:embed="rId2"/>
          <a:stretch/>
        </p:blipFill>
        <p:spPr>
          <a:xfrm>
            <a:off x="3178080" y="2362320"/>
            <a:ext cx="2917800" cy="2819160"/>
          </a:xfrm>
          <a:prstGeom prst="rect">
            <a:avLst/>
          </a:prstGeom>
          <a:ln w="0">
            <a:noFill/>
          </a:ln>
        </p:spPr>
      </p:pic>
      <p:pic>
        <p:nvPicPr>
          <p:cNvPr id="716" name="Picture 13" descr="06_T01ccCytoskeletonStruc-L.jpg"/>
          <p:cNvPicPr/>
          <p:nvPr/>
        </p:nvPicPr>
        <p:blipFill>
          <a:blip r:embed="rId3"/>
          <a:stretch/>
        </p:blipFill>
        <p:spPr>
          <a:xfrm>
            <a:off x="6019920" y="2362320"/>
            <a:ext cx="2895480" cy="279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7" name="Picture 4" descr="06_T01_CytoskeletonStruc-L.jpg"/>
          <p:cNvPicPr/>
          <p:nvPr/>
        </p:nvPicPr>
        <p:blipFill>
          <a:blip r:embed="rId1"/>
          <a:stretch/>
        </p:blipFill>
        <p:spPr>
          <a:xfrm>
            <a:off x="762120" y="76320"/>
            <a:ext cx="7489800" cy="672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"/>
          <p:cNvSpPr txBox="1"/>
          <p:nvPr/>
        </p:nvSpPr>
        <p:spPr>
          <a:xfrm>
            <a:off x="456840" y="304920"/>
            <a:ext cx="80773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e75c01"/>
                </a:solidFill>
                <a:uFillTx/>
                <a:latin typeface="Century Schoolbook"/>
              </a:rPr>
              <a:t>Centrosomes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: region from which microtubules grow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lso called </a:t>
            </a:r>
            <a:r>
              <a:rPr b="0" i="1" lang="en-US" sz="2400" spc="-1" strike="noStrike">
                <a:solidFill>
                  <a:srgbClr val="e75c01"/>
                </a:solidFill>
                <a:latin typeface="Century Schoolbook"/>
              </a:rPr>
              <a:t>microtubule organizing center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nimal cells contain </a:t>
            </a:r>
            <a:r>
              <a:rPr b="1" lang="en-US" sz="2400" spc="-1" strike="noStrike">
                <a:solidFill>
                  <a:srgbClr val="ff0000"/>
                </a:solidFill>
                <a:latin typeface="Century Schoolbook"/>
              </a:rPr>
              <a:t>centriol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719" name="Picture 4" descr="06_22_CentrosomeStructure-L.jpg"/>
          <p:cNvPicPr/>
          <p:nvPr/>
        </p:nvPicPr>
        <p:blipFill>
          <a:blip r:embed="rId1"/>
          <a:stretch/>
        </p:blipFill>
        <p:spPr>
          <a:xfrm>
            <a:off x="1495440" y="1752480"/>
            <a:ext cx="5667480" cy="4969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74674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entury Schoolbook"/>
              </a:rPr>
              <a:t>CILIA &amp; FLAGELLA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21" name=""/>
          <p:cNvSpPr txBox="1"/>
          <p:nvPr/>
        </p:nvSpPr>
        <p:spPr>
          <a:xfrm>
            <a:off x="457200" y="1066680"/>
            <a:ext cx="822960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Century Schoolbook"/>
              </a:rPr>
              <a:t>Flagella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: long and few; propel through water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Century Schoolbook"/>
              </a:rPr>
              <a:t>Cilia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: short and numerous; locomotion or move fluid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Have </a:t>
            </a:r>
            <a:r>
              <a:rPr b="0" lang="ja-JP" sz="2400" spc="-1" strike="noStrike">
                <a:solidFill>
                  <a:srgbClr val="000000"/>
                </a:solidFill>
                <a:latin typeface="Century Schoolbook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9+2 pattern</a:t>
            </a:r>
            <a:r>
              <a:rPr b="0" lang="ja-JP" sz="2400" spc="-1" strike="noStrike">
                <a:solidFill>
                  <a:srgbClr val="000000"/>
                </a:solidFill>
                <a:latin typeface="Century Schoolbook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of microtubul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722" name="Picture 5" descr="06_24_FlagellCiliumStruc-L.jpg"/>
          <p:cNvPicPr/>
          <p:nvPr/>
        </p:nvPicPr>
        <p:blipFill>
          <a:blip r:embed="rId1"/>
          <a:stretch/>
        </p:blipFill>
        <p:spPr>
          <a:xfrm>
            <a:off x="1573200" y="2505240"/>
            <a:ext cx="5742000" cy="4352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74674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entury Schoolbook"/>
              </a:rPr>
              <a:t>EXTRACELLULAR MATRIX (ECM)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24" name=""/>
          <p:cNvSpPr txBox="1"/>
          <p:nvPr/>
        </p:nvSpPr>
        <p:spPr>
          <a:xfrm>
            <a:off x="457200" y="1066680"/>
            <a:ext cx="822960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240120" indent="-2401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Outside plasma membran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40120" indent="-2401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omposed of glycoproteins (ex. collagen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40120" indent="-2401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Function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: Strengthens tissues and transmits external signals to cel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725" name="Picture 4" descr="06_30_ExtracellularMatrx-L.jpg"/>
          <p:cNvPicPr/>
          <p:nvPr/>
        </p:nvPicPr>
        <p:blipFill>
          <a:blip r:embed="rId1"/>
          <a:stretch/>
        </p:blipFill>
        <p:spPr>
          <a:xfrm>
            <a:off x="298440" y="2901960"/>
            <a:ext cx="8547120" cy="395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33520" y="5032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entury Schoolbook"/>
              </a:rPr>
              <a:t>INTERCELLULAR JUNCTIONS (ANIMAL CELLS)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27" name=""/>
          <p:cNvSpPr txBox="1"/>
          <p:nvPr/>
        </p:nvSpPr>
        <p:spPr>
          <a:xfrm>
            <a:off x="304920" y="1752120"/>
            <a:ext cx="39621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Century Schoolbook"/>
              </a:rPr>
              <a:t>Tight junctions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: 2 cells are fused to form watertight sea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Century Schoolbook"/>
              </a:rPr>
              <a:t>Desmosomes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: </a:t>
            </a:r>
            <a:r>
              <a:rPr b="0" lang="ja-JP" sz="2400" spc="-1" strike="noStrike">
                <a:solidFill>
                  <a:srgbClr val="000000"/>
                </a:solidFill>
                <a:latin typeface="Century Schoolbook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rivets</a:t>
            </a:r>
            <a:r>
              <a:rPr b="0" lang="ja-JP" sz="2400" spc="-1" strike="noStrike">
                <a:solidFill>
                  <a:srgbClr val="000000"/>
                </a:solidFill>
                <a:latin typeface="Century Schoolbook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that fasten cells into strong sheet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Century Schoolbook"/>
              </a:rPr>
              <a:t>Gap junctions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: channels through which ions, sugar, small molecules can pas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728" name="Picture 4" descr="06_32_IntercellularJunct-L.jpg"/>
          <p:cNvPicPr/>
          <p:nvPr/>
        </p:nvPicPr>
        <p:blipFill>
          <a:blip r:embed="rId1"/>
          <a:stretch/>
        </p:blipFill>
        <p:spPr>
          <a:xfrm>
            <a:off x="4191120" y="1119240"/>
            <a:ext cx="4749840" cy="55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H. 6 WARM-UP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0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What is the structure &amp; function of: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SzPct val="80000"/>
              <a:buFont typeface="Century Schoolbook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Microtubule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SzPct val="80000"/>
              <a:buFont typeface="Century Schoolbook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Microfilament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SzPct val="80000"/>
              <a:buFont typeface="Century Schoolbook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Intermediate filament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9" name="Picture 5" descr="06_28_PlantCellWalls-L.jpg"/>
          <p:cNvPicPr/>
          <p:nvPr/>
        </p:nvPicPr>
        <p:blipFill>
          <a:blip r:embed="rId1"/>
          <a:stretch/>
        </p:blipFill>
        <p:spPr>
          <a:xfrm>
            <a:off x="3886200" y="1305000"/>
            <a:ext cx="4737240" cy="5095800"/>
          </a:xfrm>
          <a:prstGeom prst="rect">
            <a:avLst/>
          </a:prstGeom>
          <a:ln w="0">
            <a:noFill/>
          </a:ln>
        </p:spPr>
      </p:pic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Century Schoolbook"/>
              </a:rPr>
              <a:t>PLANT CELLS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1" name=""/>
          <p:cNvSpPr txBox="1"/>
          <p:nvPr/>
        </p:nvSpPr>
        <p:spPr>
          <a:xfrm>
            <a:off x="304560" y="1447560"/>
            <a:ext cx="41907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8000"/>
                </a:solidFill>
                <a:uFillTx/>
                <a:latin typeface="Century Schoolbook"/>
              </a:rPr>
              <a:t>Cell wall</a:t>
            </a:r>
            <a:r>
              <a:rPr b="1" lang="en-US" sz="2400" spc="-1" strike="noStrike">
                <a:solidFill>
                  <a:srgbClr val="008000"/>
                </a:solidFill>
                <a:latin typeface="Century Schoolbook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protect plant, maintain shap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omposed of </a:t>
            </a:r>
            <a:r>
              <a:rPr b="1" lang="en-US" sz="2400" spc="-1" strike="noStrike">
                <a:solidFill>
                  <a:srgbClr val="008000"/>
                </a:solidFill>
                <a:latin typeface="Century Schoolbook"/>
              </a:rPr>
              <a:t>cellulos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8000"/>
                </a:solidFill>
                <a:uFillTx/>
                <a:latin typeface="Century Schoolbook"/>
              </a:rPr>
              <a:t>Plasmodesmata</a:t>
            </a:r>
            <a:r>
              <a:rPr b="0" lang="en-US" sz="2400" spc="-1" strike="noStrike">
                <a:solidFill>
                  <a:srgbClr val="008000"/>
                </a:solidFill>
                <a:latin typeface="Century Schoolbook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hannels between cells to allow passage of molecul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2" name=""/>
          <p:cNvGraphicFramePr/>
          <p:nvPr/>
        </p:nvGraphicFramePr>
        <p:xfrm>
          <a:off x="762120" y="985680"/>
          <a:ext cx="7543800" cy="4889520"/>
        </p:xfrm>
        <a:graphic>
          <a:graphicData uri="http://schemas.openxmlformats.org/drawingml/2006/table">
            <a:tbl>
              <a:tblPr/>
              <a:tblGrid>
                <a:gridCol w="3771720"/>
                <a:gridCol w="3772080"/>
              </a:tblGrid>
              <a:tr h="8114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Plant Cells Onl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Animals Cells Onl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81108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Central vacuo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Lysosom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8114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Chloroplas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Centrio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8096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Cell wall of cellulo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Flagella, cili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82368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Plasmodesmat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Desmosomes, tight and gap junctio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8233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Extracellular matrix (ECM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2285640" y="2895120"/>
            <a:ext cx="6172200" cy="20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39d"/>
                </a:solidFill>
                <a:latin typeface="Century Schoolbook"/>
              </a:rPr>
              <a:t>HARVARD CELL VIDEO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2361960" y="495288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d2611c"/>
                </a:solidFill>
                <a:uFillTx/>
                <a:latin typeface="Century Schoolbook"/>
                <a:hlinkClick r:id="rId1"/>
              </a:rPr>
              <a:t>http://multimedia.mcb.harvard.edu/anim_innerlife.html</a:t>
            </a: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H. 6 WARM-UP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0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What is the function of: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SzPct val="80000"/>
              <a:buFont typeface="Century Schoolbook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Plasmodesmata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SzPct val="80000"/>
              <a:buFont typeface="Century Schoolbook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Gap junction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SzPct val="80000"/>
              <a:buFont typeface="Century Schoolbook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Tight junction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SzPct val="80000"/>
              <a:buFont typeface="Century Schoolbook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Desmosome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285640" y="2895120"/>
            <a:ext cx="6172200" cy="20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39d"/>
                </a:solidFill>
                <a:latin typeface="Century Schoolbook"/>
              </a:rPr>
              <a:t>CHAPTER 6</a:t>
            </a:r>
            <a:br>
              <a:rPr sz="3000"/>
            </a:b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2285640" y="50101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39d"/>
                </a:solidFill>
                <a:latin typeface="Century Schoolbook"/>
              </a:rPr>
              <a:t>A Tour of the Cell</a:t>
            </a:r>
            <a:endParaRPr b="0" lang="en-US" sz="48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YOU MUST KNOW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8560" indent="-628560">
              <a:spcBef>
                <a:spcPts val="601"/>
              </a:spcBef>
              <a:buClr>
                <a:srgbClr val="000000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Three differences between prokaryotic and eukaryotic cells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628560" indent="-628560">
              <a:spcBef>
                <a:spcPts val="601"/>
              </a:spcBef>
              <a:buClr>
                <a:srgbClr val="000000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The structure and function of organelles common to plant and animal cells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628560" indent="-628560">
              <a:spcBef>
                <a:spcPts val="601"/>
              </a:spcBef>
              <a:buClr>
                <a:srgbClr val="000000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The structure and function of organelles found only in plant cells or only in animal cells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1447560" y="155160"/>
            <a:ext cx="7010280" cy="67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20001"/>
                </a:solidFill>
                <a:latin typeface="Century Schoolbook"/>
              </a:rPr>
              <a:t>HOW WE STUDY CELLS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11" name="Rectangle 27"/>
          <p:cNvSpPr/>
          <p:nvPr/>
        </p:nvSpPr>
        <p:spPr>
          <a:xfrm>
            <a:off x="380880" y="862200"/>
            <a:ext cx="845820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20001"/>
                </a:solidFill>
                <a:latin typeface="Arial"/>
              </a:rPr>
              <a:t>Biologists use microscopes and the tools of biochemistry to study cel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2" name="Picture 1" descr="06_01NerveCellsInBrain-L.jpg"/>
          <p:cNvPicPr/>
          <p:nvPr/>
        </p:nvPicPr>
        <p:blipFill>
          <a:blip r:embed="rId1"/>
          <a:stretch/>
        </p:blipFill>
        <p:spPr>
          <a:xfrm>
            <a:off x="1295280" y="1828800"/>
            <a:ext cx="6629400" cy="4924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5T02:10:47Z</dcterms:created>
  <dc:creator>David title</dc:creator>
  <dc:description/>
  <dc:language>en-US</dc:language>
  <cp:lastModifiedBy>Chris Nancy Chou</cp:lastModifiedBy>
  <dcterms:modified xsi:type="dcterms:W3CDTF">2012-09-17T04:52:21Z</dcterms:modified>
  <cp:revision>123</cp:revision>
  <dc:subject/>
  <dc:title>Plants - Reproduction</dc:title>
</cp:coreProperties>
</file>